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633AD-7D24-48F9-8810-77DCF9BFF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57B74-FE5A-45A6-A52D-3AD175BBF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D65-BDBB-4FBE-9FD3-58A32AC0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26B-0245-4C26-B60F-D8EBD25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EE0-6D27-4582-8003-1E5FAEEA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353-F2AE-45C7-B8C6-691F509F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529C-2741-4136-B1E1-B52D1857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8C95-F320-48CC-A6FB-58D9674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789-1571-4E81-9EE1-20755F87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DA55-12A7-4197-B259-F2161553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322F-7742-4569-A850-999B6B37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30AE-E19A-4A12-850F-AAE8E269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473B-E21B-4D1E-A7E0-98912655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E19-E6D4-48F8-9B04-9BFDC05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1D41-4336-467B-857D-CB66789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DEE3-18A2-4DF0-A60C-58DE990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B53-E947-4D8D-BA53-00765CA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BEB0-6FDA-4F0F-82F7-70EE0E71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5778-F029-416C-976F-0EE7826A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1816-E510-44F4-9948-EFA34F77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2355-AD72-40E0-8843-E448479E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845F-E037-46E5-9A69-C1A0F8A3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73DE-9922-4BEE-A836-64478EB8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805A-0A1C-43EB-A8A7-C7BA585F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0F6-0576-40FB-86F3-0EDFCF81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05AC-C72C-49DA-BB08-771080D4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8603-CEF5-4630-B9BD-5A9CCEEF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8E49-D452-4BB1-9F83-99FB9D3A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D8C5-0F76-4F8B-91CF-93F6B22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A76F-4814-4F17-B53F-7A67D33D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0DC0-18FF-4B6C-96EB-718755FE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2BFF-EA4F-44F2-8F94-4AB7659C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7011D-B2F8-47F8-ADED-6567BBC2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AA60-ECED-4802-9366-EBC7A43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DB0E-704E-4574-A352-1C3FCDCE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21B-95BE-48EA-86D6-BBE75314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570B5-AAB3-442F-AB45-142F434E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25CE-8495-43EA-B81F-0D489510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B7306-EF1D-43C2-B45D-2F1A9B6C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7496D-054D-4CDA-9946-98921095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E93B-B86E-4A77-9C1A-D6296E2D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F8CC-BF92-42EF-A256-CD6BE80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92EF-D4D6-4C9D-80F0-5042F12D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CABD-55D5-49E5-BA60-C8C48607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FA49-9362-43C0-A4A3-C99D5799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D5152-84FB-4BC3-9F65-B40DEBCD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815-60F2-4D66-8E22-B8788369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3E73-8399-4B76-84E3-7E4AD2DB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6F5F-0DD3-4CB4-B70F-C13145F8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6FF8-C098-4000-8ED6-FED518F2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18EDC-D52B-46D9-89CA-76FDBF25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4C144-1247-45CE-B8D2-951FDF6D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9E38E-0BF2-4A6A-BCEA-193FBEB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25E5-C298-4ECF-9549-3FB9049E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4884-7A1B-4FC0-9B25-E05A61DA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73F59-B8AD-4874-A3CB-64875058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367C-6657-4B6F-91D2-A299F758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86C-9239-43E4-AFEC-DD9F8E36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8FDF-9F07-49C8-B568-6CB7808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B5FA-B7C6-43F5-AFC0-232F94EB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1929-A91E-4A39-8B27-794965E1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9C63-2390-4A98-B654-676FD845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1D48-7B80-4413-925A-E4EA519B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3D85D-FFFE-4A62-A562-420824E8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6B711-B685-4129-9CF2-A94B882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B10E8-EE8D-48AB-BF04-A1A849E1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59F42-0175-4A2F-87F4-6CD3E88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FCC4-A504-49A4-BBDB-87DFCB0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3A7-9E07-45C3-9951-0524B69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F3DFF-AA93-41F2-A565-3DAAF323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B5DEB-57FA-453C-8ED6-A24EDC8F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D21F4-A2AF-4C81-A1E6-62320C2F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C2C09-9EED-42E6-9FF4-8FF922F8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E4336-694C-4185-B625-6BC22B04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F1FD-6C52-40E2-91DC-D82F30E1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AFFF8-7F04-4529-A2BB-2222806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44673-808A-4F3D-A039-1C5B639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6278-A6B7-4FA4-9806-91F0A5E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9DC2-F352-49FB-B146-51F63CCA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54E-455D-4485-A8C8-778B54DD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13C33-BC2A-44E2-BD45-CCB87773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895C5-68B7-4790-8670-95AC9AD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2BDE-62E6-4E6D-BBAC-267C7BD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4482-7DC5-40F3-900B-13C4A127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54646-EB81-460E-A68B-C3AADF58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C99-BD42-4E86-A05D-13E73731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D9E63-091B-4FE3-938B-59C28A768FC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263FD-9678-44CF-B2F3-B6436C9795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E86EA-2107-4075-8E49-1154FBDD36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56EE4-0037-4957-92AE-56020B7EC9F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A1453-4A64-4347-8D0F-1C6D96D9C49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D879A-5B4A-478E-A6F2-514CDDFF0D0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1F8AC-3BBC-4C7D-BADE-22CBAD4D0D5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PU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-360" y="1520640"/>
            <a:ext cx="4995720" cy="46256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Jane Addams &amp; Hull Hous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dea that poverty and criminality were products of an unhealthy environment (opposite of social Darwinism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ttlement houses provided help to immigrant families (language, customs, etc of America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5207040" y="1538280"/>
            <a:ext cx="39369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Goals: Government shoul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Assure more democracy in government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Be more accountable to its citizen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Reduce the power of wealthy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Become more efficient and less corrup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942480" indent="-498960">
              <a:spcBef>
                <a:spcPts val="8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Improving the working conditions of factory labore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ghting corruption in municipal govern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Protecting the interests of consume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Making government more directly responsible to the electora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-360" y="1774800"/>
            <a:ext cx="90313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ed as writers who played a key role in alerting the public to wrongdoing in politics and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Jungl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meatpacking industry in Chicago by Upton Sinclai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Octopu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railroads and farmers (Frank Norri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Shame of the Citie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corrupt urban charities by Lincoln Steffe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Bitter Cry of the Childre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use of child labor (John Sparg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87280" y="152532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amous Author - journalist and photographer who publicized the wretched conditions in which many immigrants liv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rbel"/>
              </a:rPr>
              <a:t>How the Other Half Liv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5319720" y="3838680"/>
            <a:ext cx="3824280" cy="3019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3"/>
          <a:stretch/>
        </p:blipFill>
        <p:spPr>
          <a:xfrm>
            <a:off x="1044720" y="3833640"/>
            <a:ext cx="4275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essive reformers rejected Social Darwinism because they believed that conflict and competition did not necessarily improve socie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reak from previous era of big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st influential advocate of full political, economic, and social equality for Black Americ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AC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3795840" y="3498840"/>
            <a:ext cx="5348160" cy="3359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3"/>
          <a:stretch/>
        </p:blipFill>
        <p:spPr>
          <a:xfrm>
            <a:off x="150840" y="3902040"/>
            <a:ext cx="36450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 Mowry-Hofstadter Thesis- idea that progressives were suffering from psychological (not economic) discont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Progressive reform was about reforming big busi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Progressivism was a result of dislocations in American life; rapid changes occurred in the economy but no corresponding changes in social and political institutions. Economic ($) Power moved to big business, but social/political life remained centered in local communitie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resulted in the panic and disorder of the 1890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-360" y="1407600"/>
            <a:ext cx="5559480" cy="5450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1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Working Class&amp; Immigrants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- seeking workmen’s compensation, wage and hour law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2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Common people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gainst special interest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3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Decline of political parties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d rise of interest groups working for specific economic interest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4)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Wome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- protecting their domestic role in an ever-increasing industrial world (temperance, divorce, prostitution, labor laws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5559480" y="4600440"/>
            <a:ext cx="3570120" cy="2257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5559480" y="1720800"/>
            <a:ext cx="35272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11:44Z</dcterms:created>
  <dc:creator>Mark Scacewater</dc:creator>
  <dc:description/>
  <dc:language>en-US</dc:language>
  <cp:lastModifiedBy>Mark Scacewater</cp:lastModifiedBy>
  <dcterms:modified xsi:type="dcterms:W3CDTF">2012-08-02T19:08:39Z</dcterms:modified>
  <cp:revision>12</cp:revision>
  <dc:subject/>
  <dc:title>Progressivism</dc:title>
</cp:coreProperties>
</file>